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816-C16D-4DA9-A878-12C29707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7FC-E1AE-4372-9387-A30C4307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00D-62E7-4B04-BF33-A4EF1802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3B2-3FB8-4253-B591-A6D32289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580D-C2CA-495E-9E1E-63EA993F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8423-96C2-4FC1-8D2D-40A28F7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1687-6627-40B2-BE1E-F89F93B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DB5-6639-4976-B198-2E99C14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0F58-888A-4F9F-B92C-52B8398F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FEED-87C9-40A5-A82E-D027B17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0A1D-9440-4007-BE1C-ABB84E4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057-1FE3-4768-A7C4-B50DE569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C4F5-740D-4680-A2E5-F83A741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6D1-7123-4021-A435-799ABD9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992B-E814-4238-BA7A-7EBED12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C2E7-449E-4D4E-BEC6-CE10976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9AB-D739-48C7-BC44-05E10053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C08-FC3B-4127-B230-2D5F150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DA8-9904-4DAC-8A3C-EF06965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E45-7BBC-4536-B212-9B6A85B6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D4B-4846-4309-A50F-C1C6EFA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0C5-5BAC-4626-B59F-3919B06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1CC-93AC-4144-8BDF-E380146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8A5-DD8C-444F-AF00-DBED801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57B-D28F-4767-B2B1-9D7F5F2B9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6275-11D5-491E-86E9-FA0C408BB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Dylan Gro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Desayuno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350532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evos revue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981080" cy="1912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84200" y="3581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52680" y="2057400"/>
            <a:ext cx="2667240" cy="192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5240" y="42670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2438640" cy="182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9120" y="6172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Almuerzo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2209680" cy="185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5008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85240" y="4572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manz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743200" cy="1806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37560" y="31240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ndw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914400" y="3962520"/>
            <a:ext cx="1981080" cy="1805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50080" y="5867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c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324480" y="37339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85280" y="59436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omedor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6240" y="28954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414440" cy="2590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5400" y="4267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2419200" cy="1895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94040" y="28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14400" y="40384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6400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4280" y="6019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638680" y="4038480"/>
            <a:ext cx="2419560" cy="1895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74720" y="6095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s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7:59Z</dcterms:created>
  <dc:creator>grocerdyl</dc:creator>
  <dc:description/>
  <dc:language>en-US</dc:language>
  <cp:lastModifiedBy>grocerdyl</cp:lastModifiedBy>
  <dcterms:modified xsi:type="dcterms:W3CDTF">2011-04-13T14:14:06Z</dcterms:modified>
  <cp:revision>3</cp:revision>
  <dc:subject/>
  <dc:title>Las Comidas</dc:title>
</cp:coreProperties>
</file>